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EA1-F1B3-4CE4-BAA3-19231385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28B-9EEA-4448-A446-9C5FE9E6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329-BC74-4552-9A75-9427FC82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973-5C25-4CFC-A353-FB6D4593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ED6E-AE03-425F-A73A-692868A2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9AE3-8E2D-420A-BC95-6C10B232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8E21-D723-4AA7-9269-F13C4A9E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9B0C-933D-4C9D-BABF-A20746BD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DCFF-B700-4113-A6B6-359B3850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54EC-63FB-471B-A821-248B815A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C264-3127-4A0A-8790-BC9F1320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5E7-A761-4636-B41D-6D9A3629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93E9-D8ED-4561-B353-7712A789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60D1-6B86-4374-AD21-5BD3A881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02CD-A53C-4931-B6A1-5B1E206D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B339-4DF7-49C8-8763-65833A2D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557F-B067-4B64-9B3D-E39C4C67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F6C-4021-4516-91AE-B3519221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909-9226-442A-9F8D-78AEDA2C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F98-70AF-4286-A166-2945740B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55B-3EBF-445D-B3C9-FC7EA5D4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AAC-1E3E-4939-88B9-856A5F6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10A-51C5-45D7-BDCE-3D085E5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FE4-5870-44EF-BA3F-EA2A940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AA4-EF5D-472F-9611-81A2F3DAEC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554B-31A7-4AAB-9BCA-16C6BAE5DD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-609480" y="-41400"/>
            <a:ext cx="10362960" cy="6899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bandera2"/>
          <p:cNvPicPr/>
          <p:nvPr/>
        </p:nvPicPr>
        <p:blipFill>
          <a:blip r:embed="rId2"/>
          <a:stretch/>
        </p:blipFill>
        <p:spPr>
          <a:xfrm>
            <a:off x="2666880" y="4114800"/>
            <a:ext cx="3810240" cy="2602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3048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República Dominicana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1930 - 196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160" y="30481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The Era of Trujill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República Dominican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fore Truji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492) Colony of Sp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795) Colony of Fr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1) Haitian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9) First Re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14) Colony of Spa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1) Rebe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2) Haitian Contr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44) Rebellion &amp; Independ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61) Spanish Provi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70) Treaty with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16) Dictatorship Ulises Heureau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24) Dictatorship Horacio Vásqu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494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afael Leonidas Trujillo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is You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486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rn in 1891 in San Cristobal, Dominican Repub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umble 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mentary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16, worked as telegraph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the end 1916, employed in a sugar refin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1918, Joins the  National Gu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aises ranks very quickly, unti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trujillojoven"/>
          <p:cNvPicPr/>
          <p:nvPr/>
        </p:nvPicPr>
        <p:blipFill>
          <a:blip r:embed="rId1"/>
          <a:stretch/>
        </p:blipFill>
        <p:spPr>
          <a:xfrm>
            <a:off x="45720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rujillo Takes Military Contro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n 1928, Trujillo becomes the head of “La Policía Nacional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Along with Rafael Estrella Ureña, leads the revolution of Santiago against Horacio Vásquez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Later, with the help from the US, he takes control and becomes”Presidente de la República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trujillo3"/>
          <p:cNvPicPr/>
          <p:nvPr/>
        </p:nvPicPr>
        <p:blipFill>
          <a:blip r:embed="rId1"/>
          <a:stretch/>
        </p:blipFill>
        <p:spPr>
          <a:xfrm>
            <a:off x="5943600" y="2057400"/>
            <a:ext cx="2581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Regime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76720" y="1828800"/>
            <a:ext cx="537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akes control of the country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 (economy, politics, etc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Gets rid of his enemies by sending them to prison &amp; torturing th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Examples of tor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- electric shocks, water drips, etc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sillaelectrica"/>
          <p:cNvPicPr/>
          <p:nvPr/>
        </p:nvPicPr>
        <p:blipFill>
          <a:blip r:embed="rId1"/>
          <a:stretch/>
        </p:blipFill>
        <p:spPr>
          <a:xfrm>
            <a:off x="53352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s Hermanas Mirab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41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n el tiempo de las mariposa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rujillo falls in love with Minerva, imprisons her husband Manolo Tavarez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he becomes involved in the revolutionary movement , </a:t>
            </a:r>
            <a:r>
              <a:rPr b="1" i="1" lang="en-US" sz="2500" spc="-1" strike="noStrike">
                <a:solidFill>
                  <a:srgbClr val="ffffff"/>
                </a:solidFill>
                <a:latin typeface="Tahoma"/>
              </a:rPr>
              <a:t>14 de jun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Murdered at the end of 1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mirabal2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 revolució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revolution began with the slow fall of the dictatorshi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US government contacted a group of rebels to help assassinate Trujillo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assassination occurred on May 30, 196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834080" y="2585880"/>
            <a:ext cx="37051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Legacy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lthough it was a violent regime, Trujillo’s Era was a moment of incredible prosperity for the Dominican econom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fter his assassination, Democracy was reach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Joaquín Balagu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escudo"/>
          <p:cNvPicPr/>
          <p:nvPr/>
        </p:nvPicPr>
        <p:blipFill>
          <a:blip r:embed="rId1"/>
          <a:stretch/>
        </p:blipFill>
        <p:spPr>
          <a:xfrm>
            <a:off x="6400800" y="2362320"/>
            <a:ext cx="224964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Luis Perez -  Compadre Pedro Juan.mp3" descr=""/>
          <p:cNvPicPr/>
          <p:nvPr/>
        </p:nvPicPr>
        <p:blipFill>
          <a:blip r:embed="rId2"/>
          <a:stretch/>
        </p:blipFill>
        <p:spPr>
          <a:xfrm>
            <a:off x="66294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218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9:34:35Z</dcterms:created>
  <dc:creator>Mechanical Engineering</dc:creator>
  <dc:description/>
  <dc:language>en-US</dc:language>
  <cp:lastModifiedBy>Helen Zumaeta</cp:lastModifiedBy>
  <dcterms:modified xsi:type="dcterms:W3CDTF">2015-01-06T15:41:04Z</dcterms:modified>
  <cp:revision>34</cp:revision>
  <dc:subject/>
  <dc:title>Republica Dominicana 1930 - 1961</dc:title>
</cp:coreProperties>
</file>